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1A9-B4D5-4804-9515-808E31AE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9E7-8EF1-4E1E-A175-E18D0771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17B-D83D-45AB-83FC-A080DE6B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C24-BD47-4D6F-8C57-2098CDD9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2CB-464F-4079-8CAA-ED8B4EA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2B3-0BFB-41B4-84FC-1ACD74B2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9E9-1FCA-4D0B-BF9F-4D1A2401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771-D421-4FFA-A89B-B5C108AE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28C-5989-463B-96FF-64D35D59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858-0D7B-435E-BB08-79CEFAFA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2BB-D93B-4439-82AB-500A6B4B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8A6-7C41-4CE8-9A72-00E3A8C5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7A50-F16F-44AD-9484-A81AD9ED7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great place to keep your class syllabus, assignments, form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Active” and “Sav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13840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2590560" y="502920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5486400"/>
            <a:ext cx="5335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33720" y="2666880"/>
            <a:ext cx="4572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File Libra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0" y="5181480"/>
            <a:ext cx="14446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you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4191120"/>
            <a:ext cx="129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14680"/>
            <a:ext cx="685800" cy="384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 your Library from the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51055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Fi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5120" y="2971800"/>
            <a:ext cx="10666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ile, then click “Nex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724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38862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038480"/>
            <a:ext cx="7621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be the file in the text box, then click “Select Fi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5105520" y="3200400"/>
            <a:ext cx="1371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94360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se for the file to uploa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lick “Nex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5880" y="3429000"/>
            <a:ext cx="8384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44956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3:05:55Z</dcterms:created>
  <dc:creator>%$#@1</dc:creator>
  <dc:description/>
  <dc:language>en-US</dc:language>
  <cp:lastModifiedBy>%$#@1</cp:lastModifiedBy>
  <dcterms:modified xsi:type="dcterms:W3CDTF">2010-04-27T03:05:58Z</dcterms:modified>
  <cp:revision>1</cp:revision>
  <dc:subject/>
  <dc:title>File Library</dc:title>
</cp:coreProperties>
</file>